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D1641-7287-4AD4-A85B-242E4FBB4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66DA9-FCB4-4557-B89C-C2DBF43FC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80CD5-3230-46AD-BFBE-21922F92B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6CFA6-7385-44C8-BFE8-CEE46A20A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61F1A-FBD8-44A4-B3D0-23D76834D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3A9A9-2C1A-4574-9660-73EBB1091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A5FD2-B6C9-41F6-8D6A-94CF8AAA4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D36D4-04F1-42D5-ACDD-A89589E74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386B4-C64B-4E79-8D21-A175E54C0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6B5E3-DEE3-42CD-8145-39F6A7DB1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A64AF-4FB2-458E-B75C-BE56FAB28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D0504-794B-4C58-9AC0-E2C663C4E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353FC-4F2B-43BA-BAD4-40A4CC8A255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loc.gov/rr/print/swann/herblock/images/s03535u.jpg" TargetMode="External"/><Relationship Id="rId3" Type="http://schemas.openxmlformats.org/officeDocument/2006/relationships/hyperlink" Target="http://www.loc.gov/rr/print/swann/herblock/object.html#repro" TargetMode="Externa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Marker Felt"/>
              </a:rPr>
              <a:t>Separate, but Equal?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arker Felt"/>
              </a:rPr>
              <a:t>Education in the Jim Crow Sou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Marker Felt"/>
              </a:rPr>
              <a:t>Guiding Questions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Marker Fel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arker Felt"/>
              </a:rPr>
              <a:t>Why would segregated schools be inherently unequal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Marker Fel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arker Felt"/>
              </a:rPr>
              <a:t>What is equality in education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Marker Fel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arker Felt"/>
              </a:rPr>
              <a:t>Can laws create equality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Marker Fel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arker Felt"/>
              </a:rPr>
              <a:t>Can people be forced to mix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14400" y="571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99"/>
                </a:solidFill>
                <a:latin typeface="Arial"/>
              </a:rPr>
              <a:t>http://students.spsu.edu/aarmstr2/home-feature3.jpg</a:t>
            </a:r>
            <a:endParaRPr b="0" lang="en-US" sz="1600" spc="-1" strike="noStrike">
              <a:solidFill>
                <a:srgbClr val="ffff99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057400" y="304920"/>
            <a:ext cx="5452920" cy="574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133720" y="533520"/>
            <a:ext cx="5091120" cy="54100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215080" y="6172200"/>
            <a:ext cx="489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ttp://students.spsu.edu/aarmstr2/home-feature1.jp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828800" y="0"/>
            <a:ext cx="4371840" cy="69343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858000" y="304920"/>
            <a:ext cx="1828800" cy="14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3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ffff"/>
                </a:solidFill>
                <a:uFillTx/>
                <a:latin typeface="Marker Felt"/>
                <a:hlinkClick r:id="rId2"/>
              </a:rPr>
              <a:t>"... One nation ... indivisible ...,"</a:t>
            </a:r>
            <a:r>
              <a:rPr b="1" lang="en-US" sz="1600" spc="-1" strike="noStrike">
                <a:solidFill>
                  <a:srgbClr val="33330a"/>
                </a:solidFill>
                <a:latin typeface="Marker Felt"/>
              </a:rPr>
              <a:t> February 22, 1977 Ink, graphite, and opaque white, with tonal film overlay and porous point pen over graphite underdrawing on paper  Published in the </a:t>
            </a:r>
            <a:r>
              <a:rPr b="1" i="1" lang="en-US" sz="1600" spc="-1" strike="noStrike">
                <a:solidFill>
                  <a:srgbClr val="33330a"/>
                </a:solidFill>
                <a:latin typeface="Marker Felt"/>
              </a:rPr>
              <a:t>Washington Post</a:t>
            </a:r>
            <a:r>
              <a:rPr b="1" lang="en-US" sz="1600" spc="-1" strike="noStrike">
                <a:solidFill>
                  <a:srgbClr val="33330a"/>
                </a:solidFill>
                <a:latin typeface="Marker Felt"/>
              </a:rPr>
              <a:t> (83)  </a:t>
            </a:r>
            <a:r>
              <a:rPr b="0" lang="en-US" sz="1600" spc="-1" strike="noStrike" u="sng">
                <a:solidFill>
                  <a:srgbClr val="00ffff"/>
                </a:solidFill>
                <a:uFillTx/>
                <a:latin typeface="Marker Felt"/>
                <a:hlinkClick r:id="rId3"/>
              </a:rPr>
              <a:t>LC-USZ62-126888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229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963"/>
                </a:solidFill>
                <a:latin typeface="Marker Felt"/>
              </a:rPr>
              <a:t>"... One nation ... indivisible ..."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Marker Felt"/>
              </a:rPr>
              <a:t>On February 22, 1977, newly-elected President Jimmy Carter submitted his budget to Congress. It included an additional $350 million in school aid for poor children; extra millions in grants and work-study programs for college students; and sought a reduction in congressional funds for school districts with large numbers of federal employees. Herb Block's cartoon is a reminder of the divisions in one nation.</a:t>
            </a:r>
            <a:endParaRPr b="0" lang="en-US" sz="16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6T21:05:50Z</dcterms:created>
  <dc:creator>Katherine Bell</dc:creator>
  <dc:description/>
  <dc:language>en-US</dc:language>
  <cp:lastModifiedBy>Katherine Bell</cp:lastModifiedBy>
  <dcterms:modified xsi:type="dcterms:W3CDTF">2009-06-27T12:52:55Z</dcterms:modified>
  <cp:revision>3</cp:revision>
  <dc:subject/>
  <dc:title>Separate, but Equal?</dc:title>
</cp:coreProperties>
</file>